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418-8D94-49AB-A47F-F960FB32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0D9-32C5-45FE-AC74-7E972162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4A4-2CEE-4120-9EF5-B38102AA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33C3-09C7-4D2C-AC10-87FA3FAF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A4D-AEBA-4694-8C80-A3175245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09FB-FAC6-43BB-9451-B9BF49EC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72E-D5F2-46E0-9561-0F861CC1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455-0AF4-4D01-B668-359081BC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7EB-B00B-4804-A409-6F03B0E6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55F-DA19-4931-BA9A-F0EE54D7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49F-B9ED-4F20-9FEB-0B818D4F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84B-75A1-48E7-8D80-91154C2A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0F76-C2AB-4ABF-910D-6B26B4FBD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50stat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ohio.shtml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enchantedlearning.com/usa/flags/ohio/ohioflag.s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ermi.jhuapl.edu/states/avhrr/OH_213.n14.96may31_1830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1520" y="5253120"/>
            <a:ext cx="2057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ylor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1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1651200">
            <a:off x="2742840" y="1371240"/>
            <a:ext cx="5308560" cy="25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613b9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hi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613b9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4419720"/>
            <a:ext cx="3505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hio song: 50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h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2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fb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fb37"/>
                </a:solidFill>
                <a:latin typeface="Arial"/>
              </a:rPr>
              <a:t>Capital: Colum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fb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fb37"/>
                </a:solidFill>
                <a:latin typeface="Arial"/>
              </a:rPr>
              <a:t>Population: 11,353,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fb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fb37"/>
                </a:solidFill>
                <a:latin typeface="Arial"/>
              </a:rPr>
              <a:t>Entered union: March 1, 1803 and was the 17</a:t>
            </a:r>
            <a:r>
              <a:rPr b="0" lang="en-US" sz="2800" spc="-1" strike="noStrike" baseline="30000">
                <a:solidFill>
                  <a:srgbClr val="6ffb37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6ffb37"/>
                </a:solidFill>
                <a:latin typeface="Arial"/>
              </a:rPr>
              <a:t> state to 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to: With god, all thing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Nickname: Buckey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Flower: Scarlet Car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Song: Beautiful O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: Beautiful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Gem: Ohio fl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34</a:t>
            </a:r>
            <a:r>
              <a:rPr b="0" lang="en-US" sz="2800" spc="-1" strike="noStrike" baseline="30000">
                <a:solidFill>
                  <a:srgbClr val="66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biggest state in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eople who live there are considered Ohio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state insect is the Lady 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y produce steel, cars, airplanes, rubber, farming and m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905200" cy="2762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35053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hio’s Capital is Columbus, you can see the star next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1066680"/>
            <a:ext cx="274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p: Enchanted Learning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h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10-18-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enchantedlearn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91120" y="3657600"/>
            <a:ext cx="2190600" cy="1390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00800" y="34290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hio’s state flag. They got their nickname, “The Buckeye State”, from the O in the mid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5803920"/>
            <a:ext cx="4289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g: Enchanted Learning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h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10-18-11, www.enchantedlearn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All images Copyright © 1997 - 2000 WriteLine. All Rights Reserved. Columbus OH Capitol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4572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hio’s capital, Columb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6095880"/>
            <a:ext cx="7696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umb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-25-11,  www.postcardsfro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57200"/>
            <a:ext cx="2752560" cy="3009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3581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satellite image of Oh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1752480"/>
            <a:ext cx="3657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io: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er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10-18-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ermi.jhuapl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10640" cy="4478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90720" y="68580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a gathering somewhere in Oh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56386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umb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-25-11, www.rpmotor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2Z</dcterms:created>
  <dc:creator>install</dc:creator>
  <dc:description/>
  <dc:language>en-US</dc:language>
  <cp:lastModifiedBy>install</cp:lastModifiedBy>
  <dcterms:modified xsi:type="dcterms:W3CDTF">2011-10-27T13:38:40Z</dcterms:modified>
  <cp:revision>13</cp:revision>
  <dc:subject/>
  <dc:title>Slide 1</dc:title>
</cp:coreProperties>
</file>